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464-9C19-4AC3-92DA-CD46CAF7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74B-0F95-4628-B2FB-224A3893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52B-0D2C-4AFA-A49A-F3190357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B88-1959-46EA-96D5-D5CB4DAD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E8E-9881-4722-AF15-DA89E057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8C6-3F40-4FF9-B2AC-0CF9BB8D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564-0605-41CA-B8B4-1A91067A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BD3-57F0-44BC-B008-8CB860A9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930-9219-466C-821F-F4009EDE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36F-24D3-44E0-B786-8BB83467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013-9714-4E5F-B297-146DF8F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350-D898-4BFA-ADDD-572758F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2C5A-69B9-422A-A6B7-0AB9ACEBF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000" y="298440"/>
            <a:ext cx="38718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nglish Gothic, 17th c."/>
              </a:rPr>
              <a:t>Our Tow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nglish Gothic, 17th c."/>
              <a:ea typeface="English Gothic, 17th c."/>
            </a:endParaRPr>
          </a:p>
        </p:txBody>
      </p:sp>
      <p:sp>
        <p:nvSpPr>
          <p:cNvPr id="42" name=""/>
          <p:cNvSpPr/>
          <p:nvPr/>
        </p:nvSpPr>
        <p:spPr>
          <a:xfrm>
            <a:off x="5093640" y="10944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Peri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472640" y="363600"/>
            <a:ext cx="2107440" cy="296640"/>
            <a:chOff x="4472640" y="363600"/>
            <a:chExt cx="2107440" cy="296640"/>
          </a:xfrm>
        </p:grpSpPr>
        <p:sp>
          <p:nvSpPr>
            <p:cNvPr id="44" name=""/>
            <p:cNvSpPr/>
            <p:nvPr/>
          </p:nvSpPr>
          <p:spPr>
            <a:xfrm>
              <a:off x="4472640" y="3636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73480" y="655560"/>
              <a:ext cx="1506600" cy="46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00640" y="380880"/>
            <a:ext cx="385920" cy="3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69400" y="744480"/>
            <a:ext cx="2107440" cy="296640"/>
            <a:chOff x="4469400" y="744480"/>
            <a:chExt cx="2107440" cy="296640"/>
          </a:xfrm>
        </p:grpSpPr>
        <p:sp>
          <p:nvSpPr>
            <p:cNvPr id="48" name=""/>
            <p:cNvSpPr/>
            <p:nvPr/>
          </p:nvSpPr>
          <p:spPr>
            <a:xfrm>
              <a:off x="4469400" y="74448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70600" y="1036440"/>
              <a:ext cx="1506240" cy="46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69400" y="1127160"/>
            <a:ext cx="2107440" cy="297000"/>
            <a:chOff x="4469400" y="1127160"/>
            <a:chExt cx="2107440" cy="297000"/>
          </a:xfrm>
        </p:grpSpPr>
        <p:sp>
          <p:nvSpPr>
            <p:cNvPr id="51" name=""/>
            <p:cNvSpPr/>
            <p:nvPr/>
          </p:nvSpPr>
          <p:spPr>
            <a:xfrm>
              <a:off x="4469400" y="112716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70600" y="1419120"/>
              <a:ext cx="1506240" cy="5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371840" y="379440"/>
            <a:ext cx="155880" cy="992160"/>
          </a:xfrm>
          <a:custGeom>
            <a:avLst/>
            <a:gdLst>
              <a:gd name="textAreaLeft" fmla="*/ 99720 w 155880"/>
              <a:gd name="textAreaRight" fmla="*/ 156240 w 155880"/>
              <a:gd name="textAreaTop" fmla="*/ 25560 h 992160"/>
              <a:gd name="textAreaBottom" fmla="*/ 966600 h 99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2920" y="1584360"/>
            <a:ext cx="653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am has been given the job of city planners.  You are responsible to lay out the plan for a new city “</a:t>
            </a:r>
            <a:r>
              <a:rPr b="0" lang="en-US" sz="1800" spc="-1" strike="noStrike">
                <a:solidFill>
                  <a:srgbClr val="000000"/>
                </a:solidFill>
                <a:latin typeface="English Gothic, 17th c."/>
              </a:rPr>
              <a:t>Our T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 To help you get started here are some things you need to think about.  You may think of others so add them.  These are major categories; you may want to add details to each major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5920" y="6423120"/>
            <a:ext cx="9190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Parisian BT"/>
              </a:rPr>
              <a:t>Recreatio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Parisian BT"/>
              <a:ea typeface="Parisian B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33760" y="3568680"/>
            <a:ext cx="7682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Socket"/>
              </a:rPr>
              <a:t>Utilitie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Socket"/>
              <a:ea typeface="Socke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59440" y="3514680"/>
            <a:ext cx="13064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Broadway BT"/>
              </a:rPr>
              <a:t>Stores and shop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Broadway BT"/>
              <a:ea typeface="Broadway B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9520" y="3568680"/>
            <a:ext cx="7682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Housing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29080" y="6467400"/>
            <a:ext cx="5806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Memo"/>
              </a:rPr>
              <a:t>Medica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Memo"/>
              <a:ea typeface="Memo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56320" y="6297480"/>
            <a:ext cx="164124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Liberty BT"/>
              </a:rPr>
              <a:t>Business and Industry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Liberty BT"/>
              <a:ea typeface="Liberty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0440" y="422280"/>
            <a:ext cx="94140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Swis721 Blk BT"/>
              </a:rPr>
              <a:t>School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Swis721 Blk BT"/>
              <a:ea typeface="Swis721 Blk B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665440" y="4327560"/>
            <a:ext cx="558720" cy="2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27200" y="353880"/>
            <a:ext cx="130644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Bodoni BdCn BT"/>
              </a:rPr>
              <a:t>Transportatio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Bodoni BdCn BT"/>
              <a:ea typeface="Bodoni BdCn B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31640" y="4284720"/>
            <a:ext cx="69552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loisterBlack BT"/>
              </a:rPr>
              <a:t>Churche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loisterBlack BT"/>
              <a:ea typeface="CloisterBlack B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941720" y="4253040"/>
            <a:ext cx="1238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ahoma"/>
              </a:rPr>
              <a:t>Government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4360" y="351000"/>
            <a:ext cx="130644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Brisk Extended"/>
              </a:rPr>
              <a:t>Infrastructu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Brisk Extended"/>
              <a:ea typeface="Brisk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8200" y="334800"/>
            <a:ext cx="633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out your city using the best planning ideas you can come up with.  Be prepared to defend your decisions and idea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120" y="3746520"/>
            <a:ext cx="6303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rading rubri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hat does not suggest things they need to cover while meeting our expectation for a math and creativity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6840" y="4948200"/>
            <a:ext cx="2159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360" y="4948200"/>
            <a:ext cx="25279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ency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0560" y="4948200"/>
            <a:ext cx="2133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5960" y="3879720"/>
            <a:ext cx="619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4960" y="787320"/>
            <a:ext cx="633276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w innovations have you come up wit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your plan feasi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covered all of the necess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ssumptions have you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thing that is usually done that you decided no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stances from where you have chosen to live in your town to the places you need to visit m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120" y="243000"/>
            <a:ext cx="2654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/Inno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94200" y="243000"/>
            <a:ext cx="28191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3160" y="243000"/>
            <a:ext cx="24152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w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880" y="4462560"/>
            <a:ext cx="21470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8680" y="4462560"/>
            <a:ext cx="17157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0640" y="4462560"/>
            <a:ext cx="19566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2:56:18Z</dcterms:created>
  <dc:creator>Philip Skolmoski</dc:creator>
  <dc:description/>
  <dc:language>en-US</dc:language>
  <cp:lastModifiedBy>JSD</cp:lastModifiedBy>
  <dcterms:modified xsi:type="dcterms:W3CDTF">2007-11-02T21:44:38Z</dcterms:modified>
  <cp:revision>2</cp:revision>
  <dc:subject/>
  <dc:title>Slide 1</dc:title>
</cp:coreProperties>
</file>